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CFC93-C57E-4B64-8DE3-64AD5365F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0CE7D-4A2B-4CF8-8CA1-95EAC23D1E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A812D-BAF9-4DC3-8D1F-1C74A9568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C7FC-AE0D-40D7-BF4D-E20251534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D987E-9124-4D5A-8B6A-BEB9959A1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6EABA-4306-490B-B693-E8ACB0CA2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69DC3-EE89-4331-A57A-814EF7706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D1732-B4DA-49F0-AE89-95B26BD74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AC009-2718-4098-AD8C-AA5A83C5A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31784-67AD-43E5-AB62-4925B43F5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93BDE-875D-4DF3-957D-F6A257797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32B46-02BD-4DBB-B053-2D84D526A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354A6-6A91-4131-9C32-B37D8ECAF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A0B5C-8A4A-43DB-8AB8-31806F9AC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DE4D1-7C88-4E72-B0F4-E7D904549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120A4-FBDF-4383-AD38-20139F9F6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E9030-739D-44E0-906F-15DDF153EB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4" descr="http://lme.is.edu.ro/socrates/normal8.jpg"/>
          <p:cNvPicPr/>
          <p:nvPr/>
        </p:nvPicPr>
        <p:blipFill>
          <a:blip r:embed="rId1"/>
          <a:stretch/>
        </p:blipFill>
        <p:spPr>
          <a:xfrm>
            <a:off x="1692360" y="1197000"/>
            <a:ext cx="5357880" cy="3790800"/>
          </a:xfrm>
          <a:prstGeom prst="rect">
            <a:avLst/>
          </a:prstGeom>
          <a:ln w="0">
            <a:noFill/>
          </a:ln>
        </p:spPr>
      </p:pic>
      <p:pic>
        <p:nvPicPr>
          <p:cNvPr id="49" name="Title 4" descr=""/>
          <p:cNvPicPr/>
          <p:nvPr/>
        </p:nvPicPr>
        <p:blipFill>
          <a:blip r:embed="rId2"/>
          <a:stretch/>
        </p:blipFill>
        <p:spPr>
          <a:xfrm>
            <a:off x="2050920" y="189000"/>
            <a:ext cx="8444160" cy="129384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4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179280" y="765000"/>
            <a:ext cx="8964720" cy="5904000"/>
          </a:xfrm>
          <a:prstGeom prst="rect">
            <a:avLst/>
          </a:prstGeom>
          <a:noFill/>
          <a:ln w="0">
            <a:noFill/>
          </a:ln>
        </p:spPr>
        <p:txBody>
          <a:bodyPr anchor="t">
            <a:normAutofit fontScale="98000"/>
          </a:bodyPr>
          <a:p>
            <a:pPr marL="357480" indent="-250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400" spc="-1" strike="noStrike">
                <a:solidFill>
                  <a:srgbClr val="0099cc"/>
                </a:solidFill>
                <a:latin typeface="Garamond"/>
              </a:rPr>
              <a:t>Masina Wimshurst</a:t>
            </a:r>
            <a:r>
              <a:rPr b="1" lang="en-US" sz="2400" spc="-1" strike="noStrike">
                <a:solidFill>
                  <a:srgbClr val="000000"/>
                </a:solidFill>
                <a:latin typeface="Garamond"/>
              </a:rPr>
              <a:t> este un generator de sarcini electrice pe care le acumuleaza la un potential ridicat. </a:t>
            </a:r>
            <a:r>
              <a:rPr b="1" lang="en-US" sz="2400" spc="-1" strike="noStrike">
                <a:solidFill>
                  <a:srgbClr val="0099cc"/>
                </a:solidFill>
                <a:latin typeface="Garamond"/>
              </a:rPr>
              <a:t>Masina Wimshurst</a:t>
            </a:r>
            <a:r>
              <a:rPr b="1" lang="en-US" sz="2400" spc="-1" strike="noStrike">
                <a:solidFill>
                  <a:srgbClr val="000000"/>
                </a:solidFill>
                <a:latin typeface="Garamond"/>
              </a:rPr>
              <a:t> este formata din doua discuri circulare de sticla, care se rotesc in sens invers, pe care sunt lipite foite de staniol. Discurile, datorita rotatiei , sunt frecate de doua perechi de   periute asezate diame-tral si fiecare pereche fiind situata fata de orizontala la un unghi de 45°. Pe diametrul orizontal, de o parte si de alta ,sunt doi con-ductori in forma de "U“, prevazuti cu varfuri ascutite (piepteni) indreptati spre discuri.Fiecare dintre ei e legat la armatura interi-oara a unui conductor cilindric (butelie de Leyda) si la un pol al masinii. Pieptenii culeg sarcinile electrice, iar buteliile le acumu-leaza. Condensatorii se incarca cu sarcini electrice de semn con-trar, de aceea masina are un pol pozitiv si unul negativ intre care se creeza o diferenta de potential de cateva zeci de mii de volti. </a:t>
            </a:r>
            <a:endParaRPr b="0" lang="en-US" sz="2400" spc="-1" strike="noStrike">
              <a:solidFill>
                <a:srgbClr val="000000"/>
              </a:solidFill>
              <a:latin typeface="Arial"/>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4" descr="http://lme.is.edu.ro/socrates/normal8.jpg"/>
          <p:cNvPicPr/>
          <p:nvPr/>
        </p:nvPicPr>
        <p:blipFill>
          <a:blip r:embed="rId1"/>
          <a:stretch/>
        </p:blipFill>
        <p:spPr>
          <a:xfrm>
            <a:off x="250920" y="549360"/>
            <a:ext cx="3384360" cy="2448000"/>
          </a:xfrm>
          <a:prstGeom prst="rect">
            <a:avLst/>
          </a:prstGeom>
          <a:ln w="0">
            <a:noFill/>
          </a:ln>
        </p:spPr>
      </p:pic>
      <p:sp>
        <p:nvSpPr>
          <p:cNvPr id="52" name=""/>
          <p:cNvSpPr/>
          <p:nvPr/>
        </p:nvSpPr>
        <p:spPr>
          <a:xfrm>
            <a:off x="3780000" y="620640"/>
            <a:ext cx="5184720" cy="2592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1" lang="fr-FR" sz="2000" spc="-1" strike="noStrike">
                <a:solidFill>
                  <a:srgbClr val="000000"/>
                </a:solidFill>
                <a:latin typeface="Arial"/>
              </a:rPr>
              <a:t>1.Clopoteii electrici</a:t>
            </a:r>
            <a:r>
              <a:rPr b="0" lang="fr-FR" sz="2000" spc="-1" strike="noStrike">
                <a:solidFill>
                  <a:srgbClr val="000000"/>
                </a:solidFill>
                <a:latin typeface="Arial"/>
              </a:rPr>
              <a:t> sunt formati dintr-o bara metalica la capetele careia sunt legati , prin cate un lant metalic doi clopotei. De mijlocul barei este suspendat printr-un fir de matase izolator un al treilea clopotel, care este prevazut cu un lant prin care se pune in legatura cu Pamantul. Acest sistem este legat printr-un lant la unul din polii masinii electrostati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
          <p:cNvSpPr/>
          <p:nvPr/>
        </p:nvSpPr>
        <p:spPr>
          <a:xfrm>
            <a:off x="324000" y="3213000"/>
            <a:ext cx="8820000" cy="360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1" lang="fr-FR" sz="2000" spc="-1" strike="noStrike">
                <a:solidFill>
                  <a:srgbClr val="000000"/>
                </a:solidFill>
                <a:latin typeface="Arial"/>
              </a:rPr>
              <a:t>Se pune masina in functiune</a:t>
            </a:r>
            <a:r>
              <a:rPr b="0" lang="fr-FR" sz="2000" spc="-1" strike="noStrike">
                <a:solidFill>
                  <a:srgbClr val="000000"/>
                </a:solidFill>
                <a:latin typeface="Arial"/>
              </a:rPr>
              <a:t>. Clopoteii de la margine, fiind in le-gatura cu bara metalica, se incarca cu sarcini electrice de acelasi fel, sa pre-supunem pozitive. Cele doua sfere mici se incarca in acelasi timp prin influ-enta cu sarcini de semn contrar, deci negativ si sunt atrase de clopoteii. Atin-gand clopoteii , sferele se incarca pozitiv prin contact si apoi sunt respinse. Atingandu-se de clopotelul pus in legatura cu Pamantul,sferele devin neutre din punct de vedere electric si revin in pozitia initiala. Apoi se incarca din nou prin influenta cu sarcini electrice negative si sunt din nou atrase de clopotei. La fiecare lovire a sferelor de clopotei se produce un sunet ca la soneri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strips dir="lu"/>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5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5" descr="http://lme.is.edu.ro/socrates/normal8.jpg"/>
          <p:cNvPicPr/>
          <p:nvPr/>
        </p:nvPicPr>
        <p:blipFill>
          <a:blip r:embed="rId1"/>
          <a:stretch/>
        </p:blipFill>
        <p:spPr>
          <a:xfrm>
            <a:off x="5364000" y="692280"/>
            <a:ext cx="3598920" cy="2528640"/>
          </a:xfrm>
          <a:prstGeom prst="rect">
            <a:avLst/>
          </a:prstGeom>
          <a:ln w="0">
            <a:noFill/>
          </a:ln>
        </p:spPr>
      </p:pic>
      <p:sp>
        <p:nvSpPr>
          <p:cNvPr id="55" name=""/>
          <p:cNvSpPr/>
          <p:nvPr/>
        </p:nvSpPr>
        <p:spPr>
          <a:xfrm>
            <a:off x="179280" y="907920"/>
            <a:ext cx="5184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Umbrela electrica</a:t>
            </a:r>
            <a:r>
              <a:rPr b="0" lang="en-US" sz="2000" spc="-1" strike="noStrike">
                <a:solidFill>
                  <a:srgbClr val="000000"/>
                </a:solidFill>
                <a:latin typeface="Arial"/>
              </a:rPr>
              <a:t> este un conductor sferic cu suport izolator , de care sunt lipite benzi subtiri de hartie.Cand se pune con -ductorul in contact cu unul din polii masinii electrostatice ,foitele de hartie ,electrizandu-se ,se resping  si iau forma unei umbrele.</a:t>
            </a:r>
            <a:endParaRPr b="0" lang="en-US" sz="2000" spc="-1" strike="noStrike">
              <a:solidFill>
                <a:srgbClr val="000000"/>
              </a:solidFill>
              <a:latin typeface="Arial"/>
            </a:endParaRPr>
          </a:p>
        </p:txBody>
      </p:sp>
      <p:sp>
        <p:nvSpPr>
          <p:cNvPr id="56" name=""/>
          <p:cNvSpPr/>
          <p:nvPr/>
        </p:nvSpPr>
        <p:spPr>
          <a:xfrm>
            <a:off x="179280" y="3716280"/>
            <a:ext cx="8964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3.Morisca electrica </a:t>
            </a:r>
            <a:r>
              <a:rPr b="0" lang="en-US" sz="2000" spc="-1" strike="noStrike">
                <a:solidFill>
                  <a:srgbClr val="000000"/>
                </a:solidFill>
                <a:latin typeface="Arial"/>
              </a:rPr>
              <a:t>are sase brate indoite in unghi drept si ascutite la varf. Este sprijinita pe varful ascutit al unui suport vertical ,legat la polul masinii si asezat pe un suport izolator.Cand masina functioneaza ,morisca se roteste in sens invers varfurilor ascutite.Aceasta se explica prin faptul ca morisca se e –lectrizeaza si toata sarcina electrica se scurge prin varfurile ascutite formand un vant de electroni care roteste morisca in sens contr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9T11:57:12Z</dcterms:created>
  <dc:creator>Grupa nr.6 ,cls.a - X -a</dc:creator>
  <dc:description/>
  <dc:language>en-US</dc:language>
  <cp:lastModifiedBy>Ileana</cp:lastModifiedBy>
  <dcterms:modified xsi:type="dcterms:W3CDTF">2009-07-19T13:24:11Z</dcterms:modified>
  <cp:revision>2</cp:revision>
  <dc:subject/>
  <dc:title>Masina Wimshurst</dc:title>
</cp:coreProperties>
</file>